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954-303E-47F5-98F9-C4F4A6B9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C804-3F73-453E-A905-FFE258A8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443-FADC-4DDF-9D57-1436F9B0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5DC-DE27-4648-B10D-846DB0C2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8028-CA9A-4E89-BF10-B4D99BD0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74C9-3781-4AFD-8756-9179C971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C271-AF2C-45C8-A8B7-0241CB1E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7FA1-9549-4AE0-85C0-86A44610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2781-F2C4-4D9E-BB4B-B45D835F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3644-3B02-4B27-A339-2934F671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DD9C-CF00-46CE-A912-C9BD7989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D03D-FAE2-4A1E-83B3-9B255506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1901-64F7-4834-84DA-A2AA827B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84D1-4A85-4B0E-BC22-AEE4AA03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BC8E-E80F-4EDD-83BB-842D46C0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5162-3AAD-4C33-9086-E5A7A2F6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EEB8-6F67-4609-87D7-17DD0CC4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DD7-A41D-4B24-A1CA-69332785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013-1147-4029-A2B0-06FC6A04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AB8-B3F3-4CCE-A116-3E5634FA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276-CEEB-4E8B-BE78-217010C0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594-EA53-4489-9902-78407AD4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B53-288A-45DE-B7C5-B4269AA6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DF1-38FD-4011-A94F-14D6EFE5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CB57-ACB2-45F7-AA60-BA19EB19EC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654E-4135-4C74-BA3F-CB36417078C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Me llamo________ 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Clase 7IM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La fecha es el 23 de septiembre del 20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00"/>
                </a:solidFill>
                <a:latin typeface="Times New Roman"/>
              </a:rPr>
              <a:t>Propósito # 5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clase te abur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tividad Inicial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pia y respon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Juegas al Bingo en la clase de españo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Duermes en la clase de histor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uedes comer en la clase de cienc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refieres jugar futbol o basquetbo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320" y="11426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Los verbos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NTERESAR, ABURRIR, GUSTAR</a:t>
            </a:r>
            <a:br>
              <a:rPr sz="4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Expressing what interests, bores or pleases you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320" y="21034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Interesar (to interes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800" spc="-1" strike="noStrike">
                <a:solidFill>
                  <a:srgbClr val="008000"/>
                </a:solidFill>
                <a:latin typeface="Times New Roman"/>
              </a:rPr>
              <a:t>Aburrir (to b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oth function the same as in English,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Te aburre el béisbo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, el béisbol me inte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Te aburren los depor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, los deportes me interes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5812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es baseball bo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419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No, baseball interests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334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 sports bo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62485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No, sports interest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7631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ustar (to please / 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to like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verb conveys the mea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 li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t its true meaning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 ple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way of saying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like baseb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”  is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seball pleases m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Te gusta el béisb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, me gusta mucho el béis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Te gustan los deportes en gener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, me gus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505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es baseball please you?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DO YOU LIKE BASE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4956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Yes it pleases me very much.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YES I LIKE IT VERY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53499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 sports in general please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DO YOU GENERALLY LIKE SPO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6248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Yes, they please me.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YES, I LIK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ust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often used with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fin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ell what you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Te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gus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an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 Si. No me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gus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e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Te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gus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895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Do you </a:t>
            </a:r>
            <a:r>
              <a:rPr b="0" i="1" lang="es-ES_tradnl" sz="2400" spc="-1" strike="noStrike">
                <a:solidFill>
                  <a:srgbClr val="008000"/>
                </a:solidFill>
                <a:latin typeface="Arial"/>
              </a:rPr>
              <a:t>like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ff0000"/>
                </a:solidFill>
                <a:latin typeface="Arial"/>
              </a:rPr>
              <a:t>to win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?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Yes. I don’t </a:t>
            </a: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like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to lose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Si, (No)  </a:t>
            </a:r>
            <a:r>
              <a:rPr b="0" i="1" lang="es-ES_tradnl" sz="2400" spc="-1" strike="noStrike">
                <a:solidFill>
                  <a:srgbClr val="008000"/>
                </a:solidFill>
                <a:latin typeface="Arial"/>
              </a:rPr>
              <a:t>me gusta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ff0000"/>
                </a:solidFill>
                <a:latin typeface="Arial"/>
              </a:rPr>
              <a:t>comer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938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se the verbs INTERESAR, ABURRIR, GUSTA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question as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T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answ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Te gusta estudi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e gusta estud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Practic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16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Te gusta cant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Te gusta bail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Te gusta mas textear o hablar por teléfo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Te gusta mas jugar baloncesto o ser espectad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23:15:46Z</dcterms:created>
  <dc:creator>Helen Zumaeta</dc:creator>
  <dc:description/>
  <dc:language>en-US</dc:language>
  <cp:lastModifiedBy>Helen Zumaeta</cp:lastModifiedBy>
  <dcterms:modified xsi:type="dcterms:W3CDTF">2011-09-23T20:01:14Z</dcterms:modified>
  <cp:revision>2</cp:revision>
  <dc:subject/>
  <dc:title>Me llamo________  Clase 7IM La fecha es el 23 de septiembre del 2011</dc:title>
</cp:coreProperties>
</file>